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CF38-9066-40D6-9D67-0E9640F2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2C4E-8586-4F22-9B6E-7A029392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ACBE-95C2-48C7-B7B2-B87E32C6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9341-725B-48F1-9EBC-B139A0B0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400F-84D7-41EA-B5D6-65F54202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C403-4D16-4D08-8AE1-1E04000B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E06E-4F68-4372-A277-67D18E8D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A62F-685D-4320-9C27-26B5B835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57FF-DA28-45DF-939C-BA064B6A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D357-45F4-45C0-8427-78BC6A85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BBF2-3612-4F53-96C4-29BCB461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5571-CCFC-4BF8-88FB-C9307A53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5c9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FAB7-9BB3-4D09-A78B-D2E0CEB97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5c9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81536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0b9"/>
                </a:solidFill>
                <a:latin typeface="Tempus Sans ITC"/>
              </a:rPr>
              <a:t>SAVING THE ORANGUTA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33520" y="2514600"/>
            <a:ext cx="3836880" cy="4022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4789440" y="2514600"/>
            <a:ext cx="3888000" cy="4038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-609480" y="914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-68580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715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84715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2336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5c9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empus Sans ITC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Brief Information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2280" y="1066680"/>
          <a:ext cx="8763120" cy="5638680"/>
        </p:xfrm>
        <a:graphic>
          <a:graphicData uri="http://schemas.openxmlformats.org/drawingml/2006/table">
            <a:tbl>
              <a:tblPr/>
              <a:tblGrid>
                <a:gridCol w="2596680"/>
                <a:gridCol w="3318120"/>
                <a:gridCol w="2848320"/>
              </a:tblGrid>
              <a:tr h="83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cc"/>
                          </a:solidFill>
                          <a:latin typeface="Tempus Sans ITC"/>
                        </a:rPr>
                        <a:t>Know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993300"/>
                          </a:solidFill>
                          <a:latin typeface="Tempus Sans ITC"/>
                        </a:rPr>
                        <a:t>Don’t Know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c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ffcc99"/>
                          </a:solidFill>
                          <a:latin typeface="Tempus Sans ITC"/>
                        </a:rPr>
                        <a:t>Idea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99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Tempus Sans ITC"/>
                        </a:rPr>
                        <a:t>Farmers burn down/log down fore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00"/>
                          </a:solidFill>
                          <a:latin typeface="Tempus Sans ITC"/>
                        </a:rPr>
                        <a:t>Why does Indonesia Government refuse help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c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99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Tempus Sans ITC"/>
                        </a:rPr>
                        <a:t>Orangutans get harmed in the proc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00"/>
                          </a:solidFill>
                          <a:latin typeface="Tempus Sans ITC"/>
                        </a:rPr>
                        <a:t>What Solutions have been already implemente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c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99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Tempus Sans ITC"/>
                        </a:rPr>
                        <a:t>Food Web Destroyed and Habitat Lo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3300"/>
                          </a:solidFill>
                          <a:latin typeface="Tempus Sans ITC"/>
                        </a:rPr>
                        <a:t>Who are the parties involve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ac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0099"/>
                    </a:solidFill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5c9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Mai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60066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empus Sans ITC"/>
              </a:rPr>
              <a:t>Poverty and Un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60066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empus Sans ITC"/>
              </a:rPr>
              <a:t>Demand for wood (Logg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60066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empus Sans ITC"/>
              </a:rPr>
              <a:t>Demand for Palm 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60066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empus Sans ITC"/>
              </a:rPr>
              <a:t>Demand for Metals such as G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60066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empus Sans ITC"/>
              </a:rPr>
              <a:t>Corru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60066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empus Sans ITC"/>
              </a:rPr>
              <a:t>Poor Land Management an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660066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empus Sans ITC"/>
              </a:rPr>
              <a:t>Poor Law E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5c9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empus Sans ITC"/>
              </a:rPr>
              <a:t>Solutions – Logging, Demand For Wood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82880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010280" y="5181480"/>
            <a:ext cx="1797120" cy="133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8600" y="5105520"/>
            <a:ext cx="20574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5c9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Solutions-Demand for Palm 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5c9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Solutions – Law Enforc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49528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086600" y="5181480"/>
            <a:ext cx="178128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5c9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Solutions -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5156280"/>
            <a:ext cx="1523880" cy="1361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934320" y="5227560"/>
            <a:ext cx="202068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5c9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empus Sans ITC"/>
              </a:rPr>
              <a:t>Save the Orangutans from Exti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orangutan"/>
          <p:cNvPicPr/>
          <p:nvPr/>
        </p:nvPicPr>
        <p:blipFill>
          <a:blip r:embed="rId1"/>
          <a:srcRect l="0" t="0" r="16666" b="0"/>
          <a:stretch/>
        </p:blipFill>
        <p:spPr>
          <a:xfrm>
            <a:off x="0" y="2889360"/>
            <a:ext cx="91440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06:16:49Z</dcterms:created>
  <dc:creator>Rohith</dc:creator>
  <dc:description/>
  <dc:language>en-US</dc:language>
  <cp:lastModifiedBy>kumar</cp:lastModifiedBy>
  <dcterms:modified xsi:type="dcterms:W3CDTF">2011-09-11T12:12:21Z</dcterms:modified>
  <cp:revision>6</cp:revision>
  <dc:subject/>
  <dc:title>Slide 1</dc:title>
</cp:coreProperties>
</file>